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40EF-2591-413C-8FFB-4B57C6F67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5618-7B61-4F70-AE8B-39845A01A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4848-1945-4B1A-9CD6-6DCDB7CF3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D8EE-3C6A-4C85-83CC-96982517F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4EAD-E998-477A-9FE7-4713E5EF5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5D39-B123-43E2-96DF-60172B43A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E44D-7925-4C80-978B-372CA60A4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968A-AD5B-4359-A292-FD6EDBD96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410F-DC82-4998-90ED-E71EA6794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0443-ACF8-4F09-84EE-274E1A170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5471-08ED-4DBC-B12F-D025EBCB6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892F-B435-49F9-BDCB-5221529CC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18AB-74FC-4813-80AA-71ACBECE6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E2B2-4DBD-4764-9E85-DA81F465D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7E58-899E-4F3C-A9C2-9E14F17D7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F183-1152-4BD6-8785-7BF5E3649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F30E-5B4C-4915-88DE-AC830A2DF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625A-2216-4EBB-83F8-6BE573266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3853-D20E-4653-A782-55571A533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E829-7133-443C-93C8-B8B85595F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A843-9F6A-4C0F-AD2A-CFAFE885E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A842-E6E4-4CAB-AA38-C7700C1C2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915E-2CB9-47E7-8012-72500FD2F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DB92-1503-44DD-8FB3-1402D4F9F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EBD8-D667-4DB1-841B-7235A8A88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C28A-BC10-400B-8FEB-AAB0CB91E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84F1-E126-4293-A823-A39DEF6B5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A44D-17EB-483B-9E9E-F59A66961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46FC-DFDA-40AA-80BF-00DBB11EF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857F-59F6-4F3B-9F4F-31A7FE879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71F6-8D5E-4D32-BCF2-37DFC3B93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CC2F-5B8D-4C0E-A43B-CD25B8090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3227-617F-41BC-9E65-87AFEE792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EEA2-2B4A-42E6-B7CE-A7573E2C0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B184-04C0-4E45-A15E-6B2541258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10B0-8D58-4337-B519-6FC28C7E9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2521-5E33-40EC-B3B4-EE4E18A12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46387D-5EF2-4084-9009-640DE3860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AC603F-3437-43FE-98AF-F7B4620FA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5ED5E7-5F7E-4F80-8336-8ED138E7DB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7B538E-2892-480B-9152-C61159B1A0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8EE33-296E-428E-84AC-7A1E6FC96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BDE40-6DF8-430F-A6B0-1AF4F15B3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0EEB5-F9D2-41FA-BE04-A0407064B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9BBCF-E190-48C4-BEAC-AD0ED4733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EA6BC-EDEF-4DDC-B0B7-CF2E68B6D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6A98B-30FC-43E2-AA06-ADDD2DDA7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595ED-9A17-4C5B-A204-C2C85BFBD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88D6B7-98AA-41A7-B355-4A1FEC66E7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04C68-42BF-4037-8185-A9332378B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4A892-DD78-4013-BC5D-27F2F06EF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D4997-057F-45EA-BEC8-2E73BF1B1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EFE3D-2F00-4B24-9BE7-3C36AEFA4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A08DB-A123-4B9F-9128-A79EE13E19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598386-650F-42DE-A310-CDE00C8E9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8A4491-EC49-4778-AA05-DCF8520EF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69F10B-A9A7-4BD8-A97E-1892B8BB1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658BFF-C636-437E-B6CB-1B29A67AC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8276A6-2C27-430C-8E93-AFECA2A1C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269212-A731-43DD-A1F0-33CC183B2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450C30-1B25-4302-B7D9-747D03CBD5E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68FB-7DF0-4847-BF83-8A642B6F2C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DD8D-4119-4A09-901C-8F995569E357}"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6269-1BC5-454D-8076-6E6D615FE4DC}"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BB7F-69BB-4AA8-92D2-AEBCE72859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Test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4"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 # 32</a:t>
            </a:r>
            <a:endParaRPr b="0" lang="en-US" sz="3200" spc="-1" strike="noStrike">
              <a:solidFill>
                <a:srgbClr val="000000"/>
              </a:solidFill>
              <a:latin typeface="Arial"/>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6351-A192-4DB5-8C54-9A3CA8648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6AF2CFA2-DB00-4BC8-841D-9B80078F65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Test Cases - 4</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st case contains</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case identifier</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the person responsible for executing the test</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e the test was executed and the version of the system tested</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of the functions to be tested and a list of actions to be carried ou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317247-BC25-44A5-88C1-023131543C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Test Cases - 5</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valu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values (expected results).  In most cases, the success of a test depends on obtaining the predefined expected resul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results (output received when the test was executed).  Indicate whether or not errors were detected, and if so, complete a “problem repor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7502C4-2087-42FD-BFD3-62FD9EEDDC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ords/Phrases That Should Raise an Alarm in Test Case Design</a:t>
            </a:r>
            <a:endParaRPr b="0" lang="en-US" sz="4000" spc="-1" strike="noStrike">
              <a:solidFill>
                <a:srgbClr val="000000"/>
              </a:solidFill>
              <a:latin typeface="Arial"/>
            </a:endParaRPr>
          </a:p>
        </p:txBody>
      </p:sp>
      <p:sp>
        <p:nvSpPr>
          <p:cNvPr id="138"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9F4CC70-472D-4121-A6BE-0C74974525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Test Cases - 6</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every, all, none, nev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ee words such as these that denote something as certain or absolute, make sure that it is, indeed, certain.  Think of cases that violate them</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ly, therefore, clearly, obviously, evidentl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words tend to persuade you into accepting something as given.  Don’t fall into the tra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8CE604-A56A-4E94-A5BC-9493D7C6D0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Test Cases - 7</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metimes, often, usually, ordinarily, customarily, most, mostl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ords are too vague.  It’s impossible to test a feature that operates “sometime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 And so forth, and so on, such 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s that finish with words such as these aren’t testable.  More explanation is need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D56C3F-DD77-4AC0-9733-9C2680FC97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Test Cases - 8</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ast, cheap, efficient, small, stable</a:t>
            </a:r>
            <a:endParaRPr b="0" lang="en-US" sz="2800" spc="-1" strike="noStrike">
              <a:solidFill>
                <a:srgbClr val="000000"/>
              </a:solidFill>
              <a:latin typeface="Arial"/>
            </a:endParaRPr>
          </a:p>
          <a:p>
            <a:pPr lvl="1" marL="713160" indent="-274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nquantifiable terms.  They are not testable</a:t>
            </a:r>
            <a:endParaRPr b="0" lang="en-US" sz="24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d, processed, rejected, skipped, eliminated</a:t>
            </a:r>
            <a:endParaRPr b="0" lang="en-US" sz="2800" spc="-1" strike="noStrike">
              <a:solidFill>
                <a:srgbClr val="000000"/>
              </a:solidFill>
              <a:latin typeface="Arial"/>
            </a:endParaRPr>
          </a:p>
          <a:p>
            <a:pPr lvl="1" marL="713160" indent="-274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erms can handle large amounts of functionality that need to be specified</a:t>
            </a:r>
            <a:endParaRPr b="0" lang="en-US" sz="24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then…(but missing else)</a:t>
            </a:r>
            <a:endParaRPr b="0" lang="en-US" sz="2800" spc="-1" strike="noStrike">
              <a:solidFill>
                <a:srgbClr val="000000"/>
              </a:solidFill>
              <a:latin typeface="Arial"/>
            </a:endParaRPr>
          </a:p>
          <a:p>
            <a:pPr lvl="1" marL="713160" indent="-274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statements that have “if…then” clauses but don’t have a matching “else.”  Ask yourself what will happen if the “if” doesn’t happen</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8DCE64-FAC8-422B-A247-C0E3C65703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Test Case</a:t>
            </a:r>
            <a:endParaRPr b="0" lang="en-US" sz="4400" spc="-1" strike="noStrike">
              <a:solidFill>
                <a:srgbClr val="000000"/>
              </a:solidFill>
              <a:latin typeface="Arial"/>
            </a:endParaRPr>
          </a:p>
        </p:txBody>
      </p:sp>
      <p:sp>
        <p:nvSpPr>
          <p:cNvPr id="146" name="Line 3"/>
          <p:cNvSpPr/>
          <p:nvPr/>
        </p:nvSpPr>
        <p:spPr>
          <a:xfrm>
            <a:off x="2819520" y="2743200"/>
            <a:ext cx="266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4"/>
          <p:cNvSpPr/>
          <p:nvPr/>
        </p:nvSpPr>
        <p:spPr>
          <a:xfrm>
            <a:off x="2819520" y="3505320"/>
            <a:ext cx="266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5"/>
          <p:cNvSpPr/>
          <p:nvPr/>
        </p:nvSpPr>
        <p:spPr>
          <a:xfrm>
            <a:off x="2819520" y="4267080"/>
            <a:ext cx="266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Text Box 6"/>
          <p:cNvSpPr/>
          <p:nvPr/>
        </p:nvSpPr>
        <p:spPr>
          <a:xfrm>
            <a:off x="592560" y="247968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a:t>
            </a:r>
            <a:endParaRPr b="0" lang="en-US" sz="2400" spc="-1" strike="noStrike">
              <a:solidFill>
                <a:srgbClr val="000000"/>
              </a:solidFill>
              <a:latin typeface="Times New Roman"/>
            </a:endParaRPr>
          </a:p>
        </p:txBody>
      </p:sp>
      <p:sp>
        <p:nvSpPr>
          <p:cNvPr id="150" name="Text Box 7"/>
          <p:cNvSpPr/>
          <p:nvPr/>
        </p:nvSpPr>
        <p:spPr>
          <a:xfrm>
            <a:off x="6019920" y="2438280"/>
            <a:ext cx="146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stent</a:t>
            </a:r>
            <a:endParaRPr b="0" lang="en-US" sz="2400" spc="-1" strike="noStrike">
              <a:solidFill>
                <a:srgbClr val="000000"/>
              </a:solidFill>
              <a:latin typeface="Times New Roman"/>
            </a:endParaRPr>
          </a:p>
        </p:txBody>
      </p:sp>
      <p:sp>
        <p:nvSpPr>
          <p:cNvPr id="151" name="Text Box 8"/>
          <p:cNvSpPr/>
          <p:nvPr/>
        </p:nvSpPr>
        <p:spPr>
          <a:xfrm>
            <a:off x="592920" y="320040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a:t>
            </a:r>
            <a:endParaRPr b="0" lang="en-US" sz="2400" spc="-1" strike="noStrike">
              <a:solidFill>
                <a:srgbClr val="000000"/>
              </a:solidFill>
              <a:latin typeface="Times New Roman"/>
            </a:endParaRPr>
          </a:p>
        </p:txBody>
      </p:sp>
      <p:sp>
        <p:nvSpPr>
          <p:cNvPr id="152" name="Text Box 9"/>
          <p:cNvSpPr/>
          <p:nvPr/>
        </p:nvSpPr>
        <p:spPr>
          <a:xfrm>
            <a:off x="6066360" y="320040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s Discrepancy</a:t>
            </a:r>
            <a:endParaRPr b="0" lang="en-US" sz="2400" spc="-1" strike="noStrike">
              <a:solidFill>
                <a:srgbClr val="000000"/>
              </a:solidFill>
              <a:latin typeface="Times New Roman"/>
            </a:endParaRPr>
          </a:p>
        </p:txBody>
      </p:sp>
      <p:sp>
        <p:nvSpPr>
          <p:cNvPr id="153" name="Text Box 10"/>
          <p:cNvSpPr/>
          <p:nvPr/>
        </p:nvSpPr>
        <p:spPr>
          <a:xfrm>
            <a:off x="593280" y="403848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able</a:t>
            </a:r>
            <a:endParaRPr b="0" lang="en-US" sz="2400" spc="-1" strike="noStrike">
              <a:solidFill>
                <a:srgbClr val="000000"/>
              </a:solidFill>
              <a:latin typeface="Times New Roman"/>
            </a:endParaRPr>
          </a:p>
        </p:txBody>
      </p:sp>
      <p:sp>
        <p:nvSpPr>
          <p:cNvPr id="154" name="Text Box 11"/>
          <p:cNvSpPr/>
          <p:nvPr/>
        </p:nvSpPr>
        <p:spPr>
          <a:xfrm>
            <a:off x="6095160" y="4038480"/>
            <a:ext cx="298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Can Be Traced</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862727C-CEFE-4073-B78B-407210FDEC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Test Cases</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l Test Cas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tion and Boundary Analysis Test Cas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Effect and Logic Cas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Test Ca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0E4773-E65D-42CC-895F-520A364C3D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ase Development Considerations</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anchor="t">
            <a:normAutofit fontScale="90000"/>
          </a:bodyPr>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valid system input must be accepted</a:t>
            </a:r>
            <a:endParaRPr b="0" lang="en-US" sz="2800" spc="-1" strike="noStrike">
              <a:solidFill>
                <a:srgbClr val="000000"/>
              </a:solidFill>
              <a:latin typeface="Arial"/>
            </a:endParaRPr>
          </a:p>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nvalid system input must be rejected with clear error messages</a:t>
            </a:r>
            <a:endParaRPr b="0" lang="en-US" sz="2800" spc="-1" strike="noStrike">
              <a:solidFill>
                <a:srgbClr val="000000"/>
              </a:solidFill>
              <a:latin typeface="Arial"/>
            </a:endParaRPr>
          </a:p>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unctions – including generation of reports – should be tested</a:t>
            </a:r>
            <a:endParaRPr b="0" lang="en-US" sz="2800" spc="-1" strike="noStrike">
              <a:solidFill>
                <a:srgbClr val="000000"/>
              </a:solidFill>
              <a:latin typeface="Arial"/>
            </a:endParaRPr>
          </a:p>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reports generated by the system should be tested and verified</a:t>
            </a:r>
            <a:endParaRPr b="0" lang="en-US" sz="2800" spc="-1" strike="noStrike">
              <a:solidFill>
                <a:srgbClr val="000000"/>
              </a:solidFill>
              <a:latin typeface="Arial"/>
            </a:endParaRPr>
          </a:p>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interfacing systems must be invoked and verified that the data is passed to and from the interfacing sys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95FBBD-7080-4824-91E2-B82677F7A4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Test Cases - 1</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rror density in software test cases is often higher than the error density in the software produ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more than 15% of total number of test cases created can have errors themselv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of repair effort is applied towards test cases themselv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6BA1C0-E551-4D00-86B8-001AC1194D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 and Today’s Lecture</a:t>
            </a:r>
            <a:endParaRPr b="0" lang="en-US" sz="4400" spc="-1" strike="noStrike">
              <a:solidFill>
                <a:srgbClr val="000000"/>
              </a:solidFill>
              <a:latin typeface="Arial"/>
            </a:endParaRPr>
          </a:p>
        </p:txBody>
      </p:sp>
      <p:sp>
        <p:nvSpPr>
          <p:cNvPr id="117"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ere discussing automated software testing and test tools, when the last class end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our last lecture on software testing in this course on software quality assuran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we will talk abou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cas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tester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completion criteria</a:t>
            </a:r>
            <a:endParaRPr b="0" lang="en-US" sz="2400" spc="-1" strike="noStrike">
              <a:solidFill>
                <a:srgbClr val="000000"/>
              </a:solidFill>
              <a:latin typeface="Arial"/>
            </a:endParaRPr>
          </a:p>
        </p:txBody>
      </p:sp>
      <p:sp>
        <p:nvSpPr>
          <p:cNvPr id="1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9A5E-2D19-4B8A-A3A9-95DF00B25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160F59C-CE0C-477D-85D4-92A9B63B96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Test Cases - 2</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ning test cases that are flawed or in error is of no value in terms of qua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n implied need for greater rigor in building and validating test cases and test librar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030822-77F2-4B17-996D-5CDCCCA6CE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Problems in Test Cases - 1</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limits and ranges where those included in the test-case are themselves incorrect</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for numeric values where the test data contains wrong data</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cases derived from specifications or user requirements which contained undetected errors that were accidentally passed on to the test cases</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al redundancy of test cases or test libraries (30%)</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6C6FE4-48F4-4E8C-B1BC-0E2A58C962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Problems in Test Cases - 2</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s, or portions of the application for which no test case exist (70%)</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gaps in requirement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inspections on test cases are very effective in eliminating bad test ca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A2D00F-77ED-4E1E-92D5-AFD860E757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ing Observations</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cases created by the programmers themselves have the lowest probability of being duplicated, but the highest probability of containing errors or bug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cases created later by test or quality assurance personnel have the greatest probability of redundancy but lower probability of containing erro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62F490-393E-4A31-88EC-10D746521F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in Test Case Generation</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0DF40B-E0CC-4712-B82C-4084D627D1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ftware Testers</a:t>
            </a:r>
            <a:endParaRPr b="0" lang="en-US" sz="4400" spc="-1" strike="noStrike">
              <a:solidFill>
                <a:srgbClr val="000000"/>
              </a:solidFill>
              <a:latin typeface="Arial"/>
            </a:endParaRPr>
          </a:p>
        </p:txBody>
      </p:sp>
      <p:sp>
        <p:nvSpPr>
          <p:cNvPr id="17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A621305-05D6-4836-BDDE-5AC255728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61D4-159B-4F2B-AA98-6441E0B94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Should Do Testing?</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ers themselv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test personne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quality assurance personne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mbination of the above thre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E227AB-CF6C-4016-8EEE-08B9135CB3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EFE6-4ECB-4A59-B9FF-4F74F649F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bservations About Testers - 1</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 removal efficiency of black-box testing is higher when performed by test personnel or by quality assurance personnel rather than developers themselves</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box testing performed by clients (Beta and acceptance testing) varies widely, but efficiency rises with the numbers of clients involv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90CF85-ABA7-4C31-9122-19E8841104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43D2-7943-45C5-8DAC-74670257CA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bservations About Testers - 2</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usability problems, testing by clients themselves outranks all other forms of tes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 removal efficiency of white-box subroutine and unit testing stages is highest when performed by developers themselv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02A24D-5277-4112-B695-2B74381CFC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B0E9-DC77-4360-8350-1FF10E91EF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bservations About Testers - 3</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 removal efficiency of specialized kinds of white-box testing such as Year 2000 testing or viral protection testing is highest when performed by professional test personnel rather than by the developers themselv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80E87F-609A-494A-B7E3-3D09034C20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ases</a:t>
            </a:r>
            <a:endParaRPr b="0" lang="en-US" sz="4400" spc="-1" strike="noStrike">
              <a:solidFill>
                <a:srgbClr val="000000"/>
              </a:solidFill>
              <a:latin typeface="Arial"/>
            </a:endParaRPr>
          </a:p>
        </p:txBody>
      </p:sp>
      <p:sp>
        <p:nvSpPr>
          <p:cNvPr id="120"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5B5F91-56F1-42C5-B11A-10F2BE6D13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6D85-B68F-4792-9465-A68125AD4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bution of Testers</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verag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s do 31% of tes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test personnel do 31% of tes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 personnel do 18% of tes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do 20% of test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38E80B-A0C9-4021-867F-2BACB4ADA5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n to Stop Testing?</a:t>
            </a:r>
            <a:endParaRPr b="0" lang="en-US" sz="4400" spc="-1" strike="noStrike">
              <a:solidFill>
                <a:srgbClr val="000000"/>
              </a:solidFill>
              <a:latin typeface="Arial"/>
            </a:endParaRPr>
          </a:p>
        </p:txBody>
      </p:sp>
      <p:sp>
        <p:nvSpPr>
          <p:cNvPr id="18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25D93F5-E0D7-4C11-8805-D597827947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BFB4-FB22-474C-9504-A8A9A48C6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a for Completion of Testing</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e never done testing, the burden simply shifts from you to your custom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e done testing when you run out of time or you run out of mone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definitive answ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849069-D351-45C8-9C18-CB17A40E56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o Stop Testing?</a:t>
            </a:r>
            <a:endParaRPr b="0" lang="en-US" sz="4400" spc="-1" strike="noStrike">
              <a:solidFill>
                <a:srgbClr val="000000"/>
              </a:solidFill>
              <a:latin typeface="Arial"/>
            </a:endParaRPr>
          </a:p>
        </p:txBody>
      </p:sp>
      <p:sp>
        <p:nvSpPr>
          <p:cNvPr id="194" name=""/>
          <p:cNvSpPr txBox="1"/>
          <p:nvPr/>
        </p:nvSpPr>
        <p:spPr>
          <a:xfrm>
            <a:off x="457200" y="1980720"/>
            <a:ext cx="8229600" cy="3886200"/>
          </a:xfrm>
          <a:prstGeom prst="rect">
            <a:avLst/>
          </a:prstGeom>
          <a:noFill/>
          <a:ln w="0">
            <a:noFill/>
          </a:ln>
        </p:spPr>
        <p:txBody>
          <a:bodyPr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a small or local scale, we can ask: “When to stop testing for a specific test activity?”</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a global scale, we can ask: “When to stop all the major test activities?” because the testing phase is usually the last major development phase before product release, this question is equivalent to: “When to stop testing and release the product?”</a:t>
            </a:r>
            <a:endParaRPr b="0" lang="en-US" sz="3000" spc="-1" strike="noStrike">
              <a:solidFill>
                <a:srgbClr val="000000"/>
              </a:solidFill>
              <a:latin typeface="Arial"/>
            </a:endParaRPr>
          </a:p>
        </p:txBody>
      </p:sp>
      <p:sp>
        <p:nvSpPr>
          <p:cNvPr id="1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2E87-DBB7-4DDA-923D-4EF882359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FFA28FB-8B60-444E-BCC3-00F1BF76ED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based criteria, where decision is made based on resource consumptions. The most commonly used such stopping criteria ar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op when you run out of tim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op when you run out of money”</a:t>
            </a:r>
            <a:endParaRPr b="0" lang="en-US" sz="2800" spc="-1" strike="noStrike">
              <a:solidFill>
                <a:srgbClr val="000000"/>
              </a:solidFill>
              <a:latin typeface="Arial"/>
            </a:endParaRPr>
          </a:p>
        </p:txBody>
      </p:sp>
      <p:sp>
        <p:nvSpPr>
          <p:cNvPr id="1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5D2A-F146-446C-8293-E27B3D571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87100A3-D855-4E8B-9ADB-1B7D6DB968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h criteria are irresponsible, as far as product quality is concerned, although they may be employed if product schedule or cost are the dominant concerns for the product in question</a:t>
            </a:r>
            <a:endParaRPr b="0" lang="en-US" sz="3200" spc="-1" strike="noStrike">
              <a:solidFill>
                <a:srgbClr val="000000"/>
              </a:solidFill>
              <a:latin typeface="Arial"/>
            </a:endParaRPr>
          </a:p>
        </p:txBody>
      </p:sp>
      <p:sp>
        <p:nvSpPr>
          <p:cNvPr id="2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DF9C-583D-409B-8C10-8D59F06448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01774D0-7998-40D6-B405-7161E72CB5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based criteria, commonly in the for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op when you complete planned test activities”</a:t>
            </a:r>
            <a:endParaRPr b="0" lang="en-US" sz="2800" spc="-1" strike="noStrike">
              <a:solidFill>
                <a:srgbClr val="000000"/>
              </a:solidFill>
              <a:latin typeface="Arial"/>
            </a:endParaRPr>
          </a:p>
        </p:txBody>
      </p:sp>
      <p:sp>
        <p:nvSpPr>
          <p:cNvPr id="2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FEB5-4C1C-4CAC-BD8C-DD302382F8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FA6900D-BB7D-49AF-81BA-8BEF849584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riterion implicitly assumes the effectiveness of the test activities in ensuring the quality of the software product. However, this assumption could be questionable without strong historical evidence based on actual data from the project concerned</a:t>
            </a:r>
            <a:endParaRPr b="0" lang="en-US" sz="3200" spc="-1" strike="noStrike">
              <a:solidFill>
                <a:srgbClr val="000000"/>
              </a:solidFill>
              <a:latin typeface="Arial"/>
            </a:endParaRPr>
          </a:p>
        </p:txBody>
      </p:sp>
      <p:sp>
        <p:nvSpPr>
          <p:cNvPr id="2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8CB4-5C42-4446-B50D-260060EF6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5465D70-2D6B-492D-A928-9E28BB7C56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5A40-192A-420F-948F-241462497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we cannot be absolutely certain that the software will never fail, but relative to a theoretically sound and experimentally validated statistical model, we have done sufficient testing to say with 95% confidence that the probability of 1000 CPU hours of failure free operation in a probabilistically defined environment is at least 0.995</a:t>
            </a:r>
            <a:endParaRPr b="0" lang="en-US" sz="28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a and Ackerma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E7F512-A8FF-440D-B62E-D0C7E8491D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F1B6-DCCD-43ED-A2E1-FD7347F024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had discussed test cases, responsibilities and characteristics of software testers, and completion criter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p entire series of software testing lectur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569932-4123-4F4E-A467-F1DFFCE1D7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ases - 1</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st case describes how each test is to be  conducted and also describes </a:t>
            </a:r>
            <a:r>
              <a:rPr b="0" lang="en-US" sz="2800" spc="-1" strike="noStrike">
                <a:solidFill>
                  <a:srgbClr val="ff0000"/>
                </a:solidFill>
                <a:latin typeface="Arial"/>
              </a:rPr>
              <a:t>input/output detail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test cases assist in keeping track of what is tested, when it is tested, and the outcome of the test</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defect is found in testing, a documented test case makes it easy for the developer to re-create the problem so that proper analysis can be done to fix i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3C1DB9-496E-4EFE-99BD-80E8D340D3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8978-646E-4D84-AC93-5EB83650F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roads to Software Quality by Alka Jarvis and Vern Crandall (Chapter 6.4 and 6.6)</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gineering: A Practitioner’s Approach by Roger S. Pressman (Chapter 18.1.4)</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 Tian (Chapter 6.4)</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Quality: Analysis and Guidelines for Success by Capers Jon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FCED9D-47C7-4163-B324-B01D9D6DCCCD}"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ases - 2</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ng test cases is the single most important task that software testers do.  Improper selection can result in testing too much, testing too little, or testing the wrong things</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lligently weighing the risks and reducing the infinite possibilities to a manageable effective set is where the magic is</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E756D054-A0D2-40E5-A6B7-5C2C3ADB29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ases - 3</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esigning and running your test cases, always run the test-to-pass cases first.  It is important to see if the software fundamentally works before you throw the kitchen sink at it.  You may be surprised how many bugs you find just by using the software normal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761F8A-F795-4111-8E84-9C97267C23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Test Cases - 1</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o standards or simple rules for designing test cas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cases should be designed for testing each function, with expected resul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determine what will break the system, the tester has to be creative and </a:t>
            </a:r>
            <a:r>
              <a:rPr b="0" lang="en-US" sz="3200" spc="-1" strike="noStrike">
                <a:solidFill>
                  <a:srgbClr val="ff0000"/>
                </a:solidFill>
                <a:latin typeface="Arial"/>
              </a:rPr>
              <a:t>want to break</a:t>
            </a:r>
            <a:r>
              <a:rPr b="0" lang="en-US" sz="3200" spc="-1" strike="noStrike">
                <a:solidFill>
                  <a:srgbClr val="000000"/>
                </a:solidFill>
                <a:latin typeface="Arial"/>
              </a:rPr>
              <a:t> the syst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FF6B91-FE50-44E4-A94E-C6D6420DF6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Test Cases - 2</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cases should be repeatable, i.e., when a test case is rerun, it should give the same results each time, except in real-time environ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cases should be organized and developed around system requirements and for key functions of the syst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34AD8B-B4DA-4C06-B7A3-7B33B02E13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Test Cases - 3</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design emphasiz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of test needed to test the requirements</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 test will run</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ll requirements will be addressed by the tests</a:t>
            </a:r>
            <a:endParaRPr b="0" lang="en-US" sz="28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test cases catch error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est cases that cover as many related functions as possib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100E9F-3A5C-4FB8-8646-3E24D4E1FC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30T19:05:19Z</dcterms:created>
  <dc:creator>Ghulam Ahmad Farrukh</dc:creator>
  <dc:description/>
  <dc:language>en-US</dc:language>
  <cp:lastModifiedBy>ahmadmohsin</cp:lastModifiedBy>
  <dcterms:modified xsi:type="dcterms:W3CDTF">2009-06-22T05:16:56Z</dcterms:modified>
  <cp:revision>480</cp:revision>
  <dc:subject/>
  <dc:title>Software Quality Assurance and Testing</dc:title>
</cp:coreProperties>
</file>